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1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1"/>
          </p:nvPr>
        </p:nvSpPr>
        <p:spPr>
          <a:xfrm>
            <a:off x="3806640" y="0"/>
            <a:ext cx="2911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de-DE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892080" y="7408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Click to move the slide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895320" y="4689000"/>
            <a:ext cx="492768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2"/>
          </p:nvPr>
        </p:nvSpPr>
        <p:spPr>
          <a:xfrm>
            <a:off x="-360" y="9372600"/>
            <a:ext cx="2911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de-DE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3"/>
          </p:nvPr>
        </p:nvSpPr>
        <p:spPr>
          <a:xfrm>
            <a:off x="3806640" y="9372600"/>
            <a:ext cx="2911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de-DE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0FE3F4D-211A-4919-BF78-33CBDD0EEC97}" type="slidenum">
              <a:rPr b="0" lang="de-DE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06640" y="9372600"/>
            <a:ext cx="2911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F38773B-2FA4-4243-93DA-85EDE639E3BD}" type="slidenum">
              <a:rPr b="0" lang="de-DE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9372600"/>
            <a:ext cx="2911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11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06640" y="0"/>
            <a:ext cx="2911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938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1400" y="4687560"/>
            <a:ext cx="53755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6840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95320" y="4687560"/>
            <a:ext cx="492768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Headquarter in Düsseldorf: </a:t>
            </a:r>
            <a:br>
              <a:rPr sz="1100"/>
            </a:b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(Division of Vocational Training in the „Bauindustrieverband Nordrhein-Westfalen“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- Support of Vocational Education in Construction Industry,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    especially support of young talents in the branch of industr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6840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95320" y="4687560"/>
            <a:ext cx="492768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Headquarter in Düsseldorf: </a:t>
            </a:r>
            <a:br>
              <a:rPr sz="1100"/>
            </a:b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(Division of Vocational Training in the „Bauindustrieverband Nordrhein-Westfalen“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- Support of Vocational Education in Construction Industry,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    especially support of young talents in the branch of industr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6840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95320" y="4687560"/>
            <a:ext cx="492768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Headquarter in Düsseldorf: </a:t>
            </a:r>
            <a:br>
              <a:rPr sz="1100"/>
            </a:b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(Division of Vocational Training in the „Bauindustrieverband Nordrhein-Westfalen“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- Support of Vocational Education in Construction Industry,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    especially support of young talents in the branch of industr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1523880" y="3808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8900000">
            <a:off x="428760" y="6113160"/>
            <a:ext cx="488880" cy="892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972" y="2214"/>
                  <a:pt x="12343" y="5080"/>
                  <a:pt x="12343" y="10800"/>
                </a:cubicBezTo>
                <a:cubicBezTo>
                  <a:pt x="12343" y="16520"/>
                  <a:pt x="16972" y="193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1e1e1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anchorCtr="1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anchorCtr="1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702480"/>
            <a:ext cx="91440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4365f5"/>
                </a:solidFill>
                <a:latin typeface="Arial"/>
              </a:rPr>
              <a:t>www.berufsbildung-bau.d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031760" y="6700680"/>
            <a:ext cx="8105760" cy="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0"/>
            <a:ext cx="0" cy="618156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6719760"/>
            <a:ext cx="1729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4365f5"/>
                </a:solidFill>
                <a:latin typeface="Arial"/>
              </a:rPr>
              <a:t>BGa: Thessaloniki, 2008-11-10 + 11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000" y="6423120"/>
            <a:ext cx="53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484A-99AF-4CF5-9AB6-A2261EC3F56D}" type="slidenum">
              <a:rPr b="1" lang="en-US" sz="10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000" y="6635880"/>
            <a:ext cx="52380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Tahoma"/>
                <a:ea typeface="Tahoma"/>
              </a:rPr>
              <a:t>26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8280" y="6350040"/>
            <a:ext cx="436680" cy="431640"/>
            <a:chOff x="98280" y="6350040"/>
            <a:chExt cx="436680" cy="431640"/>
          </a:xfrm>
        </p:grpSpPr>
        <p:sp>
          <p:nvSpPr>
            <p:cNvPr id="65" name=""/>
            <p:cNvSpPr/>
            <p:nvPr/>
          </p:nvSpPr>
          <p:spPr>
            <a:xfrm>
              <a:off x="101520" y="6350040"/>
              <a:ext cx="433440" cy="43164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8280" y="6565680"/>
              <a:ext cx="433440" cy="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2"/>
          <a:srcRect l="0" t="30408" r="7661" b="26064"/>
          <a:stretch/>
        </p:blipFill>
        <p:spPr>
          <a:xfrm>
            <a:off x="25560" y="428760"/>
            <a:ext cx="473040" cy="72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8440" y="44280"/>
            <a:ext cx="471600" cy="36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361360" y="30240"/>
            <a:ext cx="755640" cy="5014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Click to edit the title text format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40458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40458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7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923920"/>
            <a:ext cx="801864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0458c"/>
                </a:solidFill>
                <a:latin typeface="Tahoma"/>
              </a:rPr>
              <a:t>Contents /structure of my presentation :</a:t>
            </a:r>
            <a:br>
              <a:rPr sz="2800"/>
            </a:b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1400"/>
            </a:b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Introductory remarks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2. Overview of partners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3. Work done until now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4. Future Work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5. Discussion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2276640"/>
            <a:ext cx="8604360" cy="0"/>
          </a:xfrm>
          <a:prstGeom prst="line">
            <a:avLst/>
          </a:prstGeom>
          <a:ln w="76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56720" y="6597720"/>
            <a:ext cx="11872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600" spc="-1" strike="noStrike">
                <a:solidFill>
                  <a:srgbClr val="ff0000"/>
                </a:solidFill>
                <a:latin typeface="Times New Roman"/>
                <a:ea typeface="Tahoma"/>
              </a:rPr>
              <a:t>2008-11-10_SQF constrution_D.ppt</a:t>
            </a:r>
            <a:endParaRPr b="0" lang="en-US" sz="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0"/>
            <a:ext cx="860436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d4d4d"/>
                </a:solidFill>
                <a:latin typeface="Tahoma"/>
                <a:ea typeface="Tahoma"/>
              </a:rPr>
              <a:t>	</a:t>
            </a:r>
            <a:r>
              <a:rPr b="0" lang="de-DE" sz="1400" spc="-1" strike="noStrike" u="sng">
                <a:solidFill>
                  <a:srgbClr val="4d4d4d"/>
                </a:solidFill>
                <a:uFillTx/>
                <a:latin typeface="Tahoma"/>
                <a:ea typeface="Tahoma"/>
              </a:rPr>
              <a:t>2 0 0 8 - 1 1 - 1 0 / 1 1 :   C E D E F O P  </a:t>
            </a:r>
            <a:r>
              <a:rPr b="0" lang="de-DE" sz="1400" spc="-1" strike="noStrike" u="sng">
                <a:solidFill>
                  <a:srgbClr val="4d4d4d"/>
                </a:solidFill>
                <a:uFillTx/>
                <a:latin typeface="Wingdings"/>
                <a:ea typeface="Wingdings"/>
              </a:rPr>
              <a:t></a:t>
            </a:r>
            <a:r>
              <a:rPr b="0" lang="de-DE" sz="1400" spc="-1" strike="noStrike" u="sng">
                <a:solidFill>
                  <a:srgbClr val="4d4d4d"/>
                </a:solidFill>
                <a:uFillTx/>
                <a:latin typeface="Tahoma"/>
                <a:ea typeface="Tahoma"/>
              </a:rPr>
              <a:t>  E Q F  L d V  S e c t o r a l  W o r k s h o p :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  <a:ea typeface="Tahoma"/>
              </a:rPr>
              <a:t>Developing and introducing </a:t>
            </a:r>
            <a:br>
              <a:rPr sz="2400"/>
            </a:br>
            <a:r>
              <a:rPr b="1" lang="en-GB" sz="2400" spc="-1" strike="noStrike">
                <a:solidFill>
                  <a:srgbClr val="40458c"/>
                </a:solidFill>
                <a:latin typeface="Arial"/>
                <a:ea typeface="Tahoma"/>
              </a:rPr>
              <a:t>a  Sectorial Qualifications Framework </a:t>
            </a:r>
            <a:br>
              <a:rPr sz="2400"/>
            </a:br>
            <a:r>
              <a:rPr b="1" lang="en-GB" sz="2400" spc="-1" strike="noStrike">
                <a:solidFill>
                  <a:srgbClr val="40458c"/>
                </a:solidFill>
                <a:latin typeface="Arial"/>
                <a:ea typeface="Tahoma"/>
              </a:rPr>
              <a:t>for the European Construction Industr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  <a:ea typeface="Tahoma"/>
              </a:rPr>
              <a:t>Bernd Garstk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4032360" cy="51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Work done until now: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0"/>
            <a:ext cx="0" cy="6172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620640"/>
            <a:ext cx="792000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(1) Forming a working group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42920" y="1844640"/>
            <a:ext cx="7561440" cy="38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Tahoma"/>
              </a:rPr>
              <a:t>German core group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Tahoma"/>
              </a:rPr>
              <a:t>meeting in February and April 2008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…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preparation of framework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1</a:t>
            </a:r>
            <a:r>
              <a:rPr b="1" lang="en-US" sz="2800" spc="-1" strike="noStrike" baseline="30000">
                <a:solidFill>
                  <a:srgbClr val="008000"/>
                </a:solidFill>
                <a:latin typeface="Tahoma"/>
                <a:ea typeface="Tahoma"/>
              </a:rPr>
              <a:t>st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 International Working Group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meeting in June 2008 </a:t>
            </a:r>
            <a:br>
              <a:rPr sz="2800"/>
            </a:b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…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agreement on approach, procedure,</a:t>
            </a:r>
            <a:br>
              <a:rPr sz="2800"/>
            </a:b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and division of labou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4032360" cy="51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Work done until now: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0"/>
            <a:ext cx="0" cy="6172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620640"/>
            <a:ext cx="792000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(2) Detailing of concept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87280" y="2133720"/>
            <a:ext cx="7632720" cy="44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749"/>
              </a:spcBef>
              <a:buClr>
                <a:srgbClr val="40458c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Strict orientation towards 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“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learning outcome approach”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…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what a learner knows and is able to do, </a:t>
            </a:r>
            <a:br>
              <a:rPr sz="2800"/>
            </a:b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regardless where and how it was learned </a:t>
            </a:r>
            <a:br>
              <a:rPr sz="2800"/>
            </a:b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and how long the learning process has</a:t>
            </a:r>
            <a:br>
              <a:rPr sz="2800"/>
            </a:b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take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4032360" cy="51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Work done until now: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0"/>
            <a:ext cx="0" cy="6172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620640"/>
            <a:ext cx="792000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(3) Taking EQF-structure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6000" y="2133720"/>
            <a:ext cx="7777080" cy="30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8 level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   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…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of which levels 1-5 (maybe 6)</a:t>
            </a:r>
            <a:br>
              <a:rPr sz="2400"/>
            </a:b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are us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3 dimensions   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…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- knowledge</a:t>
            </a:r>
            <a:br>
              <a:rPr sz="2400"/>
            </a:b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- skills</a:t>
            </a:r>
            <a:br>
              <a:rPr sz="2400"/>
            </a:b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- competenc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4032360" cy="51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Work done until now: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0"/>
            <a:ext cx="0" cy="6172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620640"/>
            <a:ext cx="7920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marL="631800" indent="-631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(4) Structuring SQF-CON accord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to the work process on site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03280" y="2276640"/>
            <a:ext cx="748836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1.  Planning and job engineer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2.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 Setting up sit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3.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 Survey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4.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 Production   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(2 kinds of sit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5.  Measurement and taking over of 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 finished work, bil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4032360" cy="51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Work done until now: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0"/>
            <a:ext cx="0" cy="6172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620640"/>
            <a:ext cx="7920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marL="712800" indent="-712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(5) Outlining parts of SQF-CO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as examples to describe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2421000"/>
            <a:ext cx="799308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lvl="1" marL="623880">
              <a:lnSpc>
                <a:spcPct val="100000"/>
              </a:lnSpc>
              <a:spcBef>
                <a:spcPts val="3501"/>
              </a:spcBef>
              <a:buClr>
                <a:srgbClr val="40458c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knowledge, skills and competence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623880">
              <a:lnSpc>
                <a:spcPct val="100000"/>
              </a:lnSpc>
              <a:spcBef>
                <a:spcPts val="3501"/>
              </a:spcBef>
              <a:buClr>
                <a:srgbClr val="40458c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at a certain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623880">
              <a:lnSpc>
                <a:spcPct val="100000"/>
              </a:lnSpc>
              <a:spcBef>
                <a:spcPts val="3501"/>
              </a:spcBef>
              <a:buClr>
                <a:srgbClr val="40458c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for a certain phase of the work proces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4032360" cy="47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Work done until now: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0"/>
            <a:ext cx="0" cy="6172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620640"/>
            <a:ext cx="792000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marL="712800" indent="-712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(..) an example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rcRect l="18458" t="34454" r="17350" b="17227"/>
          <a:stretch/>
        </p:blipFill>
        <p:spPr>
          <a:xfrm>
            <a:off x="620640" y="1413000"/>
            <a:ext cx="8425080" cy="47545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rcRect l="14766" t="19688" r="12920" b="29532"/>
          <a:stretch/>
        </p:blipFill>
        <p:spPr>
          <a:xfrm>
            <a:off x="0" y="1413000"/>
            <a:ext cx="9144000" cy="4814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4103640" cy="47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Work done until now: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0"/>
            <a:ext cx="0" cy="6172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620640"/>
            <a:ext cx="792000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marL="712800" indent="-712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(..) an example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9640" y="1413000"/>
          <a:ext cx="8496360" cy="4752720"/>
        </p:xfrm>
        <a:graphic>
          <a:graphicData uri="http://schemas.openxmlformats.org/drawingml/2006/table">
            <a:tbl>
              <a:tblPr/>
              <a:tblGrid>
                <a:gridCol w="2592360"/>
                <a:gridCol w="1944720"/>
                <a:gridCol w="1835280"/>
                <a:gridCol w="2124000"/>
              </a:tblGrid>
              <a:tr h="772920">
                <a:tc>
                  <a:txBody>
                    <a:bodyPr lIns="18000" rIns="18000" tIns="10800" bIns="1080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Level</a:t>
                      </a:r>
                      <a:br>
                        <a:rPr sz="2400"/>
                      </a:b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	</a:t>
                      </a:r>
                      <a:r>
                        <a:rPr b="1" i="1" lang="en-US" sz="20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40458c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r>
                        <a:rPr b="1" i="1" lang="en-US" sz="20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 job titl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knows …</a:t>
                      </a:r>
                      <a:br>
                        <a:rPr sz="2400"/>
                      </a:br>
                      <a:r>
                        <a:rPr b="0" lang="de-DE" sz="20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„knowledge“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an …</a:t>
                      </a:r>
                      <a:br>
                        <a:rPr sz="2400"/>
                      </a:br>
                      <a:r>
                        <a:rPr b="0" lang="de-DE" sz="20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„skills“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4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s able to …</a:t>
                      </a:r>
                      <a:br>
                        <a:rPr sz="2400"/>
                      </a:br>
                      <a:r>
                        <a:rPr b="0" lang="de-DE" sz="20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„competences“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768240">
                <a:tc>
                  <a:txBody>
                    <a:bodyPr lIns="18000" rIns="18000" tIns="10800" bIns="1080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Level 2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	</a:t>
                      </a:r>
                      <a:r>
                        <a:rPr b="0" i="1" lang="en-U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600" spc="-1" strike="noStrike">
                          <a:solidFill>
                            <a:srgbClr val="40458c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r>
                        <a:rPr b="0" i="1" lang="en-U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 unskilled worker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3280">
                <a:tc>
                  <a:txBody>
                    <a:bodyPr lIns="18000" rIns="18000" tIns="10800" bIns="1080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Level 3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	</a:t>
                      </a:r>
                      <a:r>
                        <a:rPr b="0" i="1" lang="en-U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600" spc="-1" strike="noStrike">
                          <a:solidFill>
                            <a:srgbClr val="40458c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r>
                        <a:rPr b="0" i="1" lang="en-U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 skilled worker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1480">
                <a:tc>
                  <a:txBody>
                    <a:bodyPr lIns="18000" rIns="18000" tIns="10800" bIns="1080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Level 3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	</a:t>
                      </a:r>
                      <a:r>
                        <a:rPr b="0" i="1" lang="en-U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600" spc="-1" strike="noStrike">
                          <a:solidFill>
                            <a:srgbClr val="40458c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r>
                        <a:rPr b="0" i="1" lang="en-U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 foreman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3880">
                <a:tc>
                  <a:txBody>
                    <a:bodyPr lIns="18000" rIns="18000" tIns="10800" bIns="1080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Level 4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	</a:t>
                      </a:r>
                      <a:r>
                        <a:rPr b="0" i="1" lang="en-U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600" spc="-1" strike="noStrike">
                          <a:solidFill>
                            <a:srgbClr val="40458c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r>
                        <a:rPr b="0" i="1" lang="en-U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 industrial head mason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2920">
                <a:tc>
                  <a:txBody>
                    <a:bodyPr lIns="18000" rIns="18000" tIns="10800" bIns="1080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Level 5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	</a:t>
                      </a:r>
                      <a:r>
                        <a:rPr b="0" i="1" lang="en-U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600" spc="-1" strike="noStrike">
                          <a:solidFill>
                            <a:srgbClr val="40458c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r>
                        <a:rPr b="0" i="1" lang="en-US" sz="16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 head mason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4032360" cy="51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Work done until now: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0"/>
            <a:ext cx="0" cy="6172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620640"/>
            <a:ext cx="792000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(6) Intermediate results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42920" y="1844640"/>
            <a:ext cx="7416720" cy="38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2</a:t>
            </a:r>
            <a:r>
              <a:rPr b="1" lang="en-US" sz="2800" spc="-1" strike="noStrike" baseline="30000">
                <a:solidFill>
                  <a:srgbClr val="008000"/>
                </a:solidFill>
                <a:latin typeface="Tahoma"/>
                <a:ea typeface="Tahoma"/>
              </a:rPr>
              <a:t>nd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 International Working Group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meeting in October 2008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…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presentation and discussion of results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…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agreement on a “first” version to get </a:t>
            </a:r>
            <a:br>
              <a:rPr sz="2800"/>
            </a:b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a consolidated version to be presented </a:t>
            </a:r>
            <a:br>
              <a:rPr sz="2800"/>
            </a:b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to other countrie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 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(via fiec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33520" y="0"/>
            <a:ext cx="0" cy="6172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24360" y="4869000"/>
            <a:ext cx="4680000" cy="647640"/>
          </a:xfrm>
          <a:prstGeom prst="rect">
            <a:avLst/>
          </a:prstGeom>
        </p:spPr>
        <p:txBody>
          <a:bodyPr wrap="none" lIns="18000" rIns="18000" tIns="10800" bIns="10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uture Work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4032360" cy="51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uture Work: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0"/>
            <a:ext cx="0" cy="6172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620640"/>
            <a:ext cx="792000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(1) Further procedure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42920" y="1844640"/>
            <a:ext cx="7416720" cy="30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International Working Group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“homework and E-Mail traffic”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from October 2008 to January 2009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…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common agreement on consolidated</a:t>
            </a:r>
            <a:br>
              <a:rPr sz="2800"/>
            </a:b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version to be presented to other</a:t>
            </a:r>
            <a:br>
              <a:rPr sz="2800"/>
            </a:b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countries  (via fiec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6338880" cy="6110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006880" y="1197000"/>
            <a:ext cx="3024360" cy="498600"/>
          </a:xfrm>
          <a:prstGeom prst="rect">
            <a:avLst/>
          </a:prstGeom>
          <a:solidFill>
            <a:srgbClr val="ccecff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58c"/>
                </a:solidFill>
                <a:latin typeface="Arial"/>
                <a:ea typeface="Tahoma"/>
              </a:rPr>
              <a:t>Main Federation of Construction Industry in Germany, Berli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620640"/>
            <a:ext cx="1657080" cy="433440"/>
          </a:xfrm>
          <a:prstGeom prst="rect">
            <a:avLst/>
          </a:prstGeom>
          <a:solidFill>
            <a:srgbClr val="969696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r" pos="79106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ma</a:t>
            </a:r>
            <a:r>
              <a:rPr b="1" lang="en-US" sz="2400" spc="-1" strike="noStrike">
                <a:solidFill>
                  <a:srgbClr val="fafa00"/>
                </a:solidFill>
                <a:latin typeface="Arial"/>
              </a:rPr>
              <a:t>ny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114560" y="2392200"/>
            <a:ext cx="2089080" cy="1866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9640" y="4437000"/>
            <a:ext cx="2521080" cy="498600"/>
          </a:xfrm>
          <a:prstGeom prst="rect">
            <a:avLst/>
          </a:prstGeom>
          <a:solidFill>
            <a:srgbClr val="ccecff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58c"/>
                </a:solidFill>
                <a:latin typeface="Arial"/>
                <a:ea typeface="Tahoma"/>
              </a:rPr>
              <a:t>Federation of Construction Industry in NRW, Düsseldorf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41320" y="3429000"/>
            <a:ext cx="0" cy="1008000"/>
          </a:xfrm>
          <a:prstGeom prst="line">
            <a:avLst/>
          </a:prstGeom>
          <a:ln w="50760">
            <a:solidFill>
              <a:srgbClr val="40458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3672000" cy="47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Arial"/>
              </a:rPr>
              <a:t>Where we are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: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1700280"/>
            <a:ext cx="0" cy="691920"/>
          </a:xfrm>
          <a:prstGeom prst="line">
            <a:avLst/>
          </a:prstGeom>
          <a:ln w="50760">
            <a:solidFill>
              <a:srgbClr val="40458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35280" y="4697280"/>
            <a:ext cx="5508720" cy="2160720"/>
            <a:chOff x="3635280" y="4697280"/>
            <a:chExt cx="5508720" cy="2160720"/>
          </a:xfrm>
        </p:grpSpPr>
        <p:sp>
          <p:nvSpPr>
            <p:cNvPr id="128" name=""/>
            <p:cNvSpPr/>
            <p:nvPr/>
          </p:nvSpPr>
          <p:spPr>
            <a:xfrm>
              <a:off x="3635280" y="4697280"/>
              <a:ext cx="5508720" cy="21607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9280" indent="-179280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1428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ome data about Northrhine-Westphalia:</a:t>
              </a:r>
              <a:br>
                <a:rPr sz="1800"/>
              </a:br>
              <a:br>
                <a:rPr sz="600"/>
              </a:br>
              <a:r>
                <a:rPr b="0" lang="de-DE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- 18 Mio. inhabitants in NRW </a:t>
              </a:r>
              <a:r>
                <a:rPr b="0" lang="de-DE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</a:t>
              </a:r>
              <a:r>
                <a:rPr b="0" lang="de-DE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place 6 in Europe (!) 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- place 15 in the range of the countries with the biggest 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performance in economy</a:t>
              </a:r>
              <a:br>
                <a:rPr sz="1400"/>
              </a:b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- 723.000 small and medium-sized companies 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- 23 of the 50 biggest companies in Germany are located in NRW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- 58 universities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58600" y="5141880"/>
              <a:ext cx="135720" cy="235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ahoma"/>
                </a:rPr>
                <a:t>7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971640" y="655560"/>
            <a:ext cx="8172360" cy="5149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9640" y="0"/>
            <a:ext cx="3672000" cy="47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378000"/>
                <a:tab algn="l" pos="766800"/>
                <a:tab algn="r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Arial"/>
              </a:rPr>
              <a:t>Where we are:</a:t>
            </a:r>
            <a:r>
              <a:rPr b="0" lang="de-DE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40458c"/>
                </a:solidFill>
                <a:latin typeface="Arial"/>
              </a:rPr>
              <a:t>… in NRW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rcRect l="0" t="12610" r="0" b="0"/>
          <a:stretch/>
        </p:blipFill>
        <p:spPr>
          <a:xfrm>
            <a:off x="4284720" y="0"/>
            <a:ext cx="434880" cy="476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9640" y="4941720"/>
            <a:ext cx="2519640" cy="935280"/>
          </a:xfrm>
          <a:prstGeom prst="rect">
            <a:avLst/>
          </a:prstGeom>
          <a:solidFill>
            <a:srgbClr val="eaeaea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10800" bIns="10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76400"/>
                <a:tab algn="l" pos="1884240"/>
                <a:tab algn="r" pos="791064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58c"/>
                </a:solidFill>
                <a:latin typeface="Arial"/>
              </a:rPr>
              <a:t>General Management of the</a:t>
            </a:r>
            <a:br>
              <a:rPr sz="1400"/>
            </a:br>
            <a:r>
              <a:rPr b="1" lang="de-DE" sz="1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660066"/>
                </a:solidFill>
                <a:latin typeface="Arial"/>
              </a:rPr>
              <a:t>“Berufsförderungswerk der </a:t>
            </a:r>
            <a:br>
              <a:rPr sz="1400"/>
            </a:br>
            <a:r>
              <a:rPr b="1" lang="de-DE" sz="1400" spc="-1" strike="noStrike">
                <a:solidFill>
                  <a:srgbClr val="660066"/>
                </a:solidFill>
                <a:latin typeface="Arial"/>
              </a:rPr>
              <a:t>  Bauindustrie NRW e.V.“ </a:t>
            </a:r>
            <a:br>
              <a:rPr sz="1400"/>
            </a:br>
            <a:r>
              <a:rPr b="1" lang="de-DE" sz="1400" spc="-1" strike="noStrike">
                <a:solidFill>
                  <a:srgbClr val="660066"/>
                </a:solidFill>
                <a:latin typeface="Arial"/>
              </a:rPr>
              <a:t>  in Düsseldorf“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21999E-006 L 0.17934 -0.00209 E">
                                      <p:cBhvr>
                                        <p:cTn id="7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4032360" cy="51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uture Work: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0"/>
            <a:ext cx="0" cy="6172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1280" y="620640"/>
            <a:ext cx="792000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(2) Further procedure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1844640"/>
            <a:ext cx="741672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1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s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 European Conference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on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Sectorial Qualifications Frame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in Construction industr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80208"/>
                </a:solidFill>
                <a:latin typeface="Tahoma"/>
                <a:ea typeface="Tahoma"/>
              </a:rPr>
              <a:t>on january 2009, 20</a:t>
            </a:r>
            <a:r>
              <a:rPr b="1" lang="en-US" sz="2800" spc="-1" strike="noStrike" baseline="30000">
                <a:solidFill>
                  <a:srgbClr val="f80208"/>
                </a:solidFill>
                <a:latin typeface="Tahoma"/>
                <a:ea typeface="Tahoma"/>
              </a:rPr>
              <a:t>th</a:t>
            </a:r>
            <a:r>
              <a:rPr b="1" lang="en-US" sz="2800" spc="-1" strike="noStrike">
                <a:solidFill>
                  <a:srgbClr val="f80208"/>
                </a:solidFill>
                <a:latin typeface="Tahoma"/>
                <a:ea typeface="Tahoma"/>
              </a:rPr>
              <a:t> in Brussels !</a:t>
            </a:r>
            <a:br>
              <a:rPr sz="2800"/>
            </a:b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…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discussion with participants</a:t>
            </a:r>
            <a:br>
              <a:rPr sz="2800"/>
            </a:b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4032360" cy="51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uture Work: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0"/>
            <a:ext cx="0" cy="6172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620640"/>
            <a:ext cx="792000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(3) Further procedure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42920" y="1844640"/>
            <a:ext cx="741672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Working Group meetings to further consolidation of SQF-Con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Dissemination towards countries not participating in the project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(e.g. BG, ES, FR, NO, PL, SE, UK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4032360" cy="51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uture Work: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0"/>
            <a:ext cx="0" cy="6172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620640"/>
            <a:ext cx="792000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(4) Further procedure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42920" y="1844640"/>
            <a:ext cx="741672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 European Conference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on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Sectorial Qualifications Frame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ahoma"/>
              </a:rPr>
              <a:t>in Construction industr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80208"/>
                </a:solidFill>
                <a:latin typeface="Tahoma"/>
                <a:ea typeface="Tahoma"/>
              </a:rPr>
              <a:t>on october 2009, 1</a:t>
            </a:r>
            <a:r>
              <a:rPr b="1" lang="en-US" sz="2800" spc="-1" strike="noStrike" baseline="30000">
                <a:solidFill>
                  <a:srgbClr val="f80208"/>
                </a:solidFill>
                <a:latin typeface="Tahoma"/>
                <a:ea typeface="Tahoma"/>
              </a:rPr>
              <a:t>st</a:t>
            </a:r>
            <a:r>
              <a:rPr b="1" lang="en-US" sz="2800" spc="-1" strike="noStrike">
                <a:solidFill>
                  <a:srgbClr val="f80208"/>
                </a:solidFill>
                <a:latin typeface="Tahoma"/>
                <a:ea typeface="Tahoma"/>
              </a:rPr>
              <a:t> in Brussels !</a:t>
            </a:r>
            <a:br>
              <a:rPr sz="2800"/>
            </a:b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…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working group to present </a:t>
            </a:r>
            <a:br>
              <a:rPr sz="2800"/>
            </a:b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	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consolidated  SQF-CON </a:t>
            </a:r>
            <a:br>
              <a:rPr sz="2800"/>
            </a:b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4032360" cy="51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uture Work: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0"/>
            <a:ext cx="0" cy="6172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620640"/>
            <a:ext cx="792000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RESULT of procedure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87280" y="3068640"/>
            <a:ext cx="727416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marL="90360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  <a:ea typeface="Tahoma"/>
              </a:rPr>
              <a:t>Agreement on a SQF-CON in the European Construction Industr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4032360" cy="51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uture Work: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0"/>
            <a:ext cx="0" cy="6172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2421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271440"/>
                <a:tab algn="l" pos="107784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40458c"/>
                </a:solidFill>
                <a:latin typeface="Arial"/>
              </a:rPr>
              <a:t>The work will be continued after the project in the frame of the Social Dialogue </a:t>
            </a:r>
            <a:br>
              <a:rPr sz="2800"/>
            </a:br>
            <a:r>
              <a:rPr b="0" i="1" lang="de-DE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de-DE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de-DE" sz="2800" spc="-1" strike="noStrike">
                <a:solidFill>
                  <a:srgbClr val="40458c"/>
                </a:solidFill>
                <a:latin typeface="Arial"/>
              </a:rPr>
              <a:t>… </a:t>
            </a:r>
            <a:r>
              <a:rPr b="0" i="1" lang="de-DE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de-DE" sz="2800" spc="-1" strike="noStrike">
                <a:solidFill>
                  <a:srgbClr val="40458c"/>
                </a:solidFill>
                <a:latin typeface="Arial"/>
              </a:rPr>
              <a:t>at European level as well as </a:t>
            </a:r>
            <a:br>
              <a:rPr sz="2800"/>
            </a:br>
            <a:r>
              <a:rPr b="0" i="1" lang="de-DE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de-DE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de-DE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de-DE" sz="2800" spc="-1" strike="noStrike">
                <a:solidFill>
                  <a:srgbClr val="40458c"/>
                </a:solidFill>
                <a:latin typeface="Arial"/>
              </a:rPr>
              <a:t>… </a:t>
            </a:r>
            <a:r>
              <a:rPr b="0" i="1" lang="de-DE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de-DE" sz="2800" spc="-1" strike="noStrike">
                <a:solidFill>
                  <a:srgbClr val="40458c"/>
                </a:solidFill>
                <a:latin typeface="Arial"/>
              </a:rPr>
              <a:t>on national levels in participating </a:t>
            </a:r>
            <a:br>
              <a:rPr sz="2800"/>
            </a:br>
            <a:r>
              <a:rPr b="0" i="1" lang="de-DE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de-DE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de-DE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de-DE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de-DE" sz="2800" spc="-1" strike="noStrike">
                <a:solidFill>
                  <a:srgbClr val="40458c"/>
                </a:solidFill>
                <a:latin typeface="Arial"/>
              </a:rPr>
              <a:t>member sta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1440"/>
                <a:tab algn="l" pos="107784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1440"/>
                <a:tab algn="l" pos="107784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a8181b"/>
                </a:solidFill>
                <a:latin typeface="Arial"/>
              </a:rPr>
              <a:t>… </a:t>
            </a:r>
            <a:r>
              <a:rPr b="0" i="1" lang="de-DE" sz="2800" spc="-1" strike="noStrike">
                <a:solidFill>
                  <a:srgbClr val="a8181b"/>
                </a:solidFill>
                <a:latin typeface="Arial"/>
              </a:rPr>
              <a:t>maybe in another projec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620640"/>
            <a:ext cx="792000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…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to be continued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4032360" cy="51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uture Work: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0"/>
            <a:ext cx="0" cy="6172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620640"/>
            <a:ext cx="792000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promotion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rcRect l="47696" t="53957" r="14308" b="10116"/>
          <a:stretch/>
        </p:blipFill>
        <p:spPr>
          <a:xfrm>
            <a:off x="2987640" y="2852640"/>
            <a:ext cx="2870280" cy="3835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582480" y="1557360"/>
            <a:ext cx="2546640" cy="3600360"/>
          </a:xfrm>
          <a:prstGeom prst="rect">
            <a:avLst/>
          </a:prstGeom>
          <a:ln w="12600">
            <a:solidFill>
              <a:srgbClr val="40458c"/>
            </a:solidFill>
            <a:miter/>
          </a:ln>
        </p:spPr>
      </p:pic>
      <p:pic>
        <p:nvPicPr>
          <p:cNvPr id="291" name="" descr=""/>
          <p:cNvPicPr/>
          <p:nvPr/>
        </p:nvPicPr>
        <p:blipFill>
          <a:blip r:embed="rId3"/>
          <a:srcRect l="4769" t="8430" r="50076" b="53957"/>
          <a:stretch/>
        </p:blipFill>
        <p:spPr>
          <a:xfrm>
            <a:off x="5735520" y="2637000"/>
            <a:ext cx="340848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4392360" cy="54936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 u="sng">
                <a:solidFill>
                  <a:srgbClr val="4d4d4d"/>
                </a:solidFill>
                <a:uFillTx/>
                <a:latin typeface="Tahoma"/>
                <a:ea typeface="Tahoma"/>
              </a:rPr>
              <a:t>Questions …?</a:t>
            </a:r>
            <a:endParaRPr b="1" lang="en-US" sz="16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84720" y="2708280"/>
            <a:ext cx="305928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rther questions to:</a:t>
            </a:r>
            <a:br>
              <a:rPr sz="1800"/>
            </a:br>
            <a:br>
              <a:rPr sz="6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ufsförderungswerk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r Bauindustrie NRW e.V.</a:t>
            </a:r>
            <a:br>
              <a:rPr sz="16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3825a9"/>
                </a:solidFill>
                <a:latin typeface="Arial"/>
              </a:rPr>
              <a:t>Bernd Garstka</a:t>
            </a:r>
            <a:br>
              <a:rPr sz="1400"/>
            </a:br>
            <a:r>
              <a:rPr b="0" lang="de-DE" sz="1400" spc="-1" strike="noStrike">
                <a:solidFill>
                  <a:srgbClr val="3825a9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hlandstraße 56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D – 40237 Düsseldorf</a:t>
            </a: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Tel.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11 / 6703 - 230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Fax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11 / 6703 - 106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garstka@bauindustrie-nrw.d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www.berufsbildung-bau.d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835280" y="5805360"/>
            <a:ext cx="3851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660066"/>
                </a:solidFill>
                <a:latin typeface="Baskerville Old Face"/>
              </a:rPr>
              <a:t>Thank you ...</a:t>
            </a:r>
            <a:endParaRPr b="0" lang="en-US" sz="4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12000" y="2781360"/>
            <a:ext cx="0" cy="3384360"/>
          </a:xfrm>
          <a:prstGeom prst="line">
            <a:avLst/>
          </a:prstGeom>
          <a:ln w="507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63640" y="621360"/>
            <a:ext cx="295272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600" spc="-1" strike="noStrike">
                <a:solidFill>
                  <a:srgbClr val="4d4d4d"/>
                </a:solidFill>
                <a:latin typeface="Arial"/>
              </a:rPr>
              <a:t>?</a:t>
            </a:r>
            <a:endParaRPr b="0" lang="en-US" sz="3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8172360" cy="51894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3672000" cy="47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78000"/>
                <a:tab algn="l" pos="766800"/>
                <a:tab algn="r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Arial"/>
              </a:rPr>
              <a:t>Where we are:</a:t>
            </a:r>
            <a:r>
              <a:rPr b="0" lang="de-DE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40458c"/>
                </a:solidFill>
                <a:latin typeface="Arial"/>
              </a:rPr>
              <a:t>… in NRW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0" y="5589720"/>
            <a:ext cx="2843280" cy="1458000"/>
            <a:chOff x="0" y="5589720"/>
            <a:chExt cx="2843280" cy="1458000"/>
          </a:xfrm>
        </p:grpSpPr>
        <p:sp>
          <p:nvSpPr>
            <p:cNvPr id="137" name=""/>
            <p:cNvSpPr/>
            <p:nvPr/>
          </p:nvSpPr>
          <p:spPr>
            <a:xfrm rot="18900000">
              <a:off x="428040" y="6113160"/>
              <a:ext cx="489240" cy="89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972" y="2214"/>
                    <a:pt x="12343" y="5080"/>
                    <a:pt x="12343" y="10800"/>
                  </a:cubicBezTo>
                  <a:cubicBezTo>
                    <a:pt x="12343" y="16520"/>
                    <a:pt x="16972" y="193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5589720"/>
              <a:ext cx="533160" cy="12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 anchorCtr="1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6705360"/>
              <a:ext cx="2843280" cy="152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 anchorCtr="1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6688080"/>
              <a:ext cx="2843280" cy="1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10800" bIns="10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4365f5"/>
                  </a:solidFill>
                  <a:latin typeface="Arial"/>
                </a:rPr>
                <a:t>	</a:t>
              </a:r>
              <a:r>
                <a:rPr b="1" lang="de-DE" sz="1000" spc="-1" strike="noStrike">
                  <a:solidFill>
                    <a:srgbClr val="4365f5"/>
                  </a:solidFill>
                  <a:latin typeface="Arial"/>
                </a:rPr>
                <a:t>  </a:t>
              </a:r>
              <a:r>
                <a:rPr b="1" lang="de-DE" sz="1000" spc="-1" strike="noStrike">
                  <a:solidFill>
                    <a:srgbClr val="4365f5"/>
                  </a:solidFill>
                  <a:latin typeface="Arial"/>
                </a:rPr>
                <a:t>www.berufsbildung-bau.d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031760" y="6700680"/>
              <a:ext cx="181152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3160" y="5589720"/>
              <a:ext cx="0" cy="59184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000" y="6422760"/>
              <a:ext cx="53316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953AEA4-1CAC-4B28-A5AC-98B6B46EF806}" type="slidenum">
                <a:rPr b="1" lang="en-US" sz="1000" spc="-1" strike="noStrike">
                  <a:solidFill>
                    <a:srgbClr val="40458c"/>
                  </a:solidFill>
                  <a:latin typeface="Tahoma"/>
                </a:rPr>
                <a:t>&lt;number&gt;</a:t>
              </a:fld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000" y="6635520"/>
              <a:ext cx="52380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Tahoma"/>
                  <a:ea typeface="Tahoma"/>
                </a:rPr>
                <a:t>6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98280" y="6350040"/>
              <a:ext cx="436680" cy="431280"/>
              <a:chOff x="98280" y="6350040"/>
              <a:chExt cx="436680" cy="431280"/>
            </a:xfrm>
          </p:grpSpPr>
          <p:sp>
            <p:nvSpPr>
              <p:cNvPr id="146" name=""/>
              <p:cNvSpPr/>
              <p:nvPr/>
            </p:nvSpPr>
            <p:spPr>
              <a:xfrm>
                <a:off x="101520" y="6350040"/>
                <a:ext cx="433440" cy="43128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98280" y="6565680"/>
                <a:ext cx="433440" cy="0"/>
              </a:xfrm>
              <a:prstGeom prst="line">
                <a:avLst/>
              </a:prstGeom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10800" bIns="-10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5889600" y="2852640"/>
            <a:ext cx="2987640" cy="1008000"/>
          </a:xfrm>
          <a:prstGeom prst="rect">
            <a:avLst/>
          </a:prstGeom>
          <a:solidFill>
            <a:srgbClr val="e1e1e1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10800" bIns="10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r" pos="791064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40458c"/>
                </a:solidFill>
                <a:latin typeface="Arial"/>
              </a:rPr>
              <a:t>Westphalia :  ABZ Hamm (since 1938)</a:t>
            </a:r>
            <a:br>
              <a:rPr sz="1200"/>
            </a:br>
            <a:r>
              <a:rPr b="0" lang="de-DE" sz="1200" spc="-1" strike="noStrike">
                <a:solidFill>
                  <a:srgbClr val="40458c"/>
                </a:solidFill>
                <a:latin typeface="Arial"/>
              </a:rPr>
              <a:t>32.000 m²,  7.850 m² under roof,  </a:t>
            </a:r>
            <a:br>
              <a:rPr sz="1200"/>
            </a:br>
            <a:r>
              <a:rPr b="0" lang="de-DE" sz="1200" spc="-1" strike="noStrike">
                <a:solidFill>
                  <a:srgbClr val="40458c"/>
                </a:solidFill>
                <a:latin typeface="Arial"/>
              </a:rPr>
              <a:t>270 training places</a:t>
            </a:r>
            <a:br>
              <a:rPr sz="1200"/>
            </a:br>
            <a:r>
              <a:rPr b="0" lang="de-DE" sz="1200" spc="-1" strike="noStrike">
                <a:solidFill>
                  <a:srgbClr val="40458c"/>
                </a:solidFill>
                <a:latin typeface="Arial"/>
              </a:rPr>
              <a:t>Director: Dipl.-Ing. Gerhard Gesk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684360" y="4508640"/>
            <a:ext cx="2879640" cy="1873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>
            <a:lum bright="16000"/>
          </a:blip>
          <a:stretch/>
        </p:blipFill>
        <p:spPr>
          <a:xfrm>
            <a:off x="1042920" y="907920"/>
            <a:ext cx="2879640" cy="1816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>
            <a:lum bright="16000"/>
          </a:blip>
          <a:stretch/>
        </p:blipFill>
        <p:spPr>
          <a:xfrm>
            <a:off x="5867280" y="836640"/>
            <a:ext cx="2880000" cy="1735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9640" y="2708280"/>
            <a:ext cx="2772000" cy="1036800"/>
          </a:xfrm>
          <a:prstGeom prst="rect">
            <a:avLst/>
          </a:prstGeom>
          <a:solidFill>
            <a:srgbClr val="e1e1e1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10800" bIns="10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r" pos="791064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40458c"/>
                </a:solidFill>
                <a:latin typeface="Arial"/>
              </a:rPr>
              <a:t>Ruhr-Area :  ABZ Essen (since 1927)</a:t>
            </a:r>
            <a:br>
              <a:rPr sz="1200"/>
            </a:br>
            <a:r>
              <a:rPr b="0" lang="de-DE" sz="1200" spc="-1" strike="noStrike">
                <a:solidFill>
                  <a:srgbClr val="40458c"/>
                </a:solidFill>
                <a:latin typeface="Arial"/>
              </a:rPr>
              <a:t>63.000 m²,  20.000 m² under roof, </a:t>
            </a:r>
            <a:br>
              <a:rPr sz="1200"/>
            </a:br>
            <a:r>
              <a:rPr b="0" lang="de-DE" sz="1200" spc="-1" strike="noStrike">
                <a:solidFill>
                  <a:srgbClr val="40458c"/>
                </a:solidFill>
                <a:latin typeface="Arial"/>
              </a:rPr>
              <a:t>450 training places </a:t>
            </a:r>
            <a:br>
              <a:rPr sz="1200"/>
            </a:br>
            <a:r>
              <a:rPr b="0" lang="de-DE" sz="1200" spc="-1" strike="noStrike">
                <a:solidFill>
                  <a:srgbClr val="40458c"/>
                </a:solidFill>
                <a:latin typeface="Arial"/>
              </a:rPr>
              <a:t>Director: Dipl.-Ing. Karl-Heinz Bässle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64000" y="5373720"/>
            <a:ext cx="2881080" cy="1008000"/>
          </a:xfrm>
          <a:prstGeom prst="rect">
            <a:avLst/>
          </a:prstGeom>
          <a:solidFill>
            <a:srgbClr val="e1e1e1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10800" bIns="10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r" pos="791064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40458c"/>
                </a:solidFill>
                <a:latin typeface="Arial"/>
              </a:rPr>
              <a:t>Rheinland :  ABZ Kerpen (since 1937)</a:t>
            </a:r>
            <a:br>
              <a:rPr sz="1200"/>
            </a:br>
            <a:r>
              <a:rPr b="0" lang="de-DE" sz="1200" spc="-1" strike="noStrike">
                <a:solidFill>
                  <a:srgbClr val="40458c"/>
                </a:solidFill>
                <a:latin typeface="Arial"/>
              </a:rPr>
              <a:t>50.000 m²,  22.000 m² under roof,</a:t>
            </a:r>
            <a:br>
              <a:rPr sz="1200"/>
            </a:br>
            <a:r>
              <a:rPr b="0" lang="de-DE" sz="1200" spc="-1" strike="noStrike">
                <a:solidFill>
                  <a:srgbClr val="40458c"/>
                </a:solidFill>
                <a:latin typeface="Arial"/>
              </a:rPr>
              <a:t>300  training places</a:t>
            </a:r>
            <a:br>
              <a:rPr sz="1200"/>
            </a:br>
            <a:r>
              <a:rPr b="0" lang="de-DE" sz="1200" spc="-1" strike="noStrike">
                <a:solidFill>
                  <a:srgbClr val="40458c"/>
                </a:solidFill>
                <a:latin typeface="Arial"/>
              </a:rPr>
              <a:t>Director: Dipl.-Ing. Ulrich Goo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5"/>
          <a:srcRect l="0" t="12610" r="0" b="0"/>
          <a:stretch/>
        </p:blipFill>
        <p:spPr>
          <a:xfrm>
            <a:off x="4284720" y="0"/>
            <a:ext cx="434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3672000" cy="47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Arial"/>
              </a:rPr>
              <a:t>What we do: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1197000"/>
            <a:ext cx="8209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384120"/>
                <a:tab algn="l" pos="723960"/>
                <a:tab algn="l" pos="1434960"/>
                <a:tab algn="l" pos="1619280"/>
                <a:tab algn="l" pos="2514600"/>
                <a:tab algn="l" pos="30542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40458c"/>
                </a:solidFill>
                <a:uFillTx/>
                <a:latin typeface="Tahoma"/>
              </a:rPr>
              <a:t>Our tasks (… in short):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Support of about 500 companies in construction industry </a:t>
            </a:r>
            <a:br>
              <a:rPr sz="2000"/>
            </a:b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in North</a:t>
            </a:r>
            <a:r>
              <a:rPr b="1" lang="de-DE" sz="2000" spc="-1" strike="noStrike">
                <a:solidFill>
                  <a:srgbClr val="40458c"/>
                </a:solidFill>
                <a:latin typeface="Tahoma"/>
              </a:rPr>
              <a:t> R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hine-Westphalia to qualify their employees by way of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79280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384120"/>
                <a:tab algn="l" pos="723960"/>
                <a:tab algn="l" pos="1434960"/>
                <a:tab algn="l" pos="1619280"/>
                <a:tab algn="l" pos="2514600"/>
                <a:tab algn="l" pos="30542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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activities to recruit </a:t>
            </a:r>
            <a:r>
              <a:rPr b="1" lang="en-GB" sz="2000" spc="-1" strike="noStrike">
                <a:solidFill>
                  <a:srgbClr val="660066"/>
                </a:solidFill>
                <a:latin typeface="Tahoma"/>
              </a:rPr>
              <a:t>young talents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79280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384120"/>
                <a:tab algn="l" pos="723960"/>
                <a:tab algn="l" pos="1434960"/>
                <a:tab algn="l" pos="1619280"/>
                <a:tab algn="l" pos="2514600"/>
                <a:tab algn="l" pos="30542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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660066"/>
                </a:solidFill>
                <a:latin typeface="Tahoma"/>
              </a:rPr>
              <a:t>vocational training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of apprentices in 25 industrial,</a:t>
            </a:r>
            <a:br>
              <a:rPr sz="2000"/>
            </a:b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technical and commercial professio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79280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384120"/>
                <a:tab algn="l" pos="723960"/>
                <a:tab algn="l" pos="1434960"/>
                <a:tab algn="l" pos="1619280"/>
                <a:tab algn="l" pos="2514600"/>
                <a:tab algn="l" pos="30542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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vocational </a:t>
            </a:r>
            <a:r>
              <a:rPr b="1" lang="en-GB" sz="2000" spc="-1" strike="noStrike">
                <a:solidFill>
                  <a:srgbClr val="660066"/>
                </a:solidFill>
                <a:latin typeface="Tahoma"/>
              </a:rPr>
              <a:t>further education and training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of suitable</a:t>
            </a:r>
            <a:br>
              <a:rPr sz="2000"/>
            </a:b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staff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0"/>
            <a:ext cx="0" cy="6172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211640" y="4869000"/>
            <a:ext cx="4392720" cy="647640"/>
          </a:xfrm>
          <a:prstGeom prst="rect">
            <a:avLst/>
          </a:prstGeom>
        </p:spPr>
        <p:txBody>
          <a:bodyPr wrap="none" lIns="18000" rIns="18000" tIns="10800" bIns="10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project ...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7440" cy="51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Basic information about the “EQF project”: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0"/>
            <a:ext cx="0" cy="6172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907920"/>
            <a:ext cx="83883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89200" indent="-1789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595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Arial"/>
              </a:rPr>
              <a:t>Title:</a:t>
            </a:r>
            <a:r>
              <a:rPr b="1" lang="de-DE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40458c"/>
                </a:solidFill>
                <a:latin typeface="Arial"/>
                <a:ea typeface="Tahoma"/>
              </a:rPr>
              <a:t>Developing and introducing a </a:t>
            </a:r>
            <a:br>
              <a:rPr sz="2400"/>
            </a:br>
            <a:r>
              <a:rPr b="0" lang="de-DE" sz="2400" spc="-1" strike="noStrike">
                <a:solidFill>
                  <a:srgbClr val="40458c"/>
                </a:solidFill>
                <a:latin typeface="Arial"/>
                <a:ea typeface="Tahoma"/>
              </a:rPr>
              <a:t>"Sectorial Qualifications Framework </a:t>
            </a:r>
            <a:br>
              <a:rPr sz="2400"/>
            </a:br>
            <a:r>
              <a:rPr b="0" lang="de-DE" sz="2400" spc="-1" strike="noStrike">
                <a:solidFill>
                  <a:srgbClr val="40458c"/>
                </a:solidFill>
                <a:latin typeface="Arial"/>
                <a:ea typeface="Tahoma"/>
              </a:rPr>
              <a:t> for the European Construction Industry“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89200" indent="-1789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595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Arial"/>
                <a:ea typeface="Tahoma"/>
              </a:rPr>
              <a:t> </a:t>
            </a:r>
            <a:r>
              <a:rPr b="0" lang="de-DE" sz="2400" spc="-1" strike="noStrike">
                <a:solidFill>
                  <a:srgbClr val="40458c"/>
                </a:solidFill>
                <a:latin typeface="Arial"/>
                <a:ea typeface="Tahoma"/>
              </a:rPr>
              <a:t>	</a:t>
            </a:r>
            <a:r>
              <a:rPr b="0" lang="de-DE" sz="2400" spc="-1" strike="noStrike">
                <a:solidFill>
                  <a:srgbClr val="40458c"/>
                </a:solidFill>
                <a:latin typeface="Arial"/>
                <a:ea typeface="Tahoma"/>
              </a:rPr>
              <a:t> </a:t>
            </a:r>
            <a:r>
              <a:rPr b="0" lang="de-DE" sz="2400" spc="-1" strike="noStrike">
                <a:solidFill>
                  <a:srgbClr val="40458c"/>
                </a:solidFill>
                <a:latin typeface="Arial"/>
                <a:ea typeface="Tahoma"/>
              </a:rPr>
              <a:t>(Acronym:  SQF-CON,</a:t>
            </a:r>
            <a:br>
              <a:rPr sz="2400"/>
            </a:br>
            <a:r>
              <a:rPr b="0" lang="de-DE" sz="2400" spc="-1" strike="noStrike">
                <a:solidFill>
                  <a:srgbClr val="40458c"/>
                </a:solidFill>
                <a:latin typeface="Arial"/>
                <a:ea typeface="Tahoma"/>
              </a:rPr>
              <a:t>  </a:t>
            </a:r>
            <a:r>
              <a:rPr b="0" i="1" lang="de-DE" sz="2000" spc="-1" strike="noStrike">
                <a:solidFill>
                  <a:srgbClr val="40458c"/>
                </a:solidFill>
                <a:latin typeface="Tahoma"/>
                <a:ea typeface="Tahoma"/>
              </a:rPr>
              <a:t>LdV-Project «137865-LLP-2007»-«DE-KA1EQF</a:t>
            </a:r>
            <a:r>
              <a:rPr b="0" lang="de-DE" sz="2400" spc="-1" strike="noStrike">
                <a:solidFill>
                  <a:srgbClr val="40458c"/>
                </a:solidFill>
                <a:latin typeface="Arial"/>
                <a:ea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89200" indent="-1789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595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89200" indent="-1789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595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Arial"/>
                <a:ea typeface="Tahoma"/>
              </a:rPr>
              <a:t>Duration:</a:t>
            </a:r>
            <a:r>
              <a:rPr b="0" lang="de-DE" sz="2400" spc="-1" strike="noStrike">
                <a:solidFill>
                  <a:srgbClr val="40458c"/>
                </a:solidFill>
                <a:latin typeface="Arial"/>
                <a:ea typeface="Tahoma"/>
              </a:rPr>
              <a:t>	</a:t>
            </a:r>
            <a:r>
              <a:rPr b="0" lang="de-DE" sz="2400" spc="-1" strike="noStrike">
                <a:solidFill>
                  <a:srgbClr val="40458c"/>
                </a:solidFill>
                <a:latin typeface="Arial"/>
                <a:ea typeface="Tahoma"/>
              </a:rPr>
              <a:t>01.02.2008 – 31.01.20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89200" indent="-1789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595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89200" indent="-1789200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2595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Arial"/>
                <a:ea typeface="Tahoma"/>
              </a:rPr>
              <a:t>Result:</a:t>
            </a:r>
            <a:r>
              <a:rPr b="0" lang="de-DE" sz="2400" spc="-1" strike="noStrike">
                <a:solidFill>
                  <a:srgbClr val="40458c"/>
                </a:solidFill>
                <a:latin typeface="Arial"/>
                <a:ea typeface="Tahoma"/>
              </a:rPr>
              <a:t>	</a:t>
            </a:r>
            <a:r>
              <a:rPr b="0" lang="de-DE" sz="2400" spc="-1" strike="noStrike">
                <a:solidFill>
                  <a:srgbClr val="40458c"/>
                </a:solidFill>
                <a:latin typeface="Arial"/>
                <a:ea typeface="Tahoma"/>
              </a:rPr>
              <a:t>Agreement on a SQF-CON in the </a:t>
            </a:r>
            <a:br>
              <a:rPr sz="2400"/>
            </a:br>
            <a:r>
              <a:rPr b="0" lang="de-DE" sz="2400" spc="-1" strike="noStrike">
                <a:solidFill>
                  <a:srgbClr val="40458c"/>
                </a:solidFill>
                <a:latin typeface="Arial"/>
                <a:ea typeface="Tahoma"/>
              </a:rPr>
              <a:t>European construction industry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89200" indent="-1789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595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89200" indent="-1789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595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Arial"/>
                <a:ea typeface="Tahoma"/>
              </a:rPr>
              <a:t>characteristics of the project:</a:t>
            </a:r>
            <a:br>
              <a:rPr sz="2400"/>
            </a:br>
            <a:r>
              <a:rPr b="0" lang="de-DE" sz="2400" spc="-1" strike="noStrike">
                <a:solidFill>
                  <a:srgbClr val="40458c"/>
                </a:solidFill>
                <a:latin typeface="Arial"/>
                <a:ea typeface="Tahoma"/>
              </a:rPr>
              <a:t>… elaborating a Sectorial Qualifications Fra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89200" indent="-1789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595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Arial"/>
                <a:ea typeface="Tahoma"/>
              </a:rPr>
              <a:t> </a:t>
            </a:r>
            <a:r>
              <a:rPr b="0" lang="de-DE" sz="2400" spc="-1" strike="noStrike">
                <a:solidFill>
                  <a:srgbClr val="40458c"/>
                </a:solidFill>
                <a:latin typeface="Arial"/>
                <a:ea typeface="Tahoma"/>
              </a:rPr>
              <a:t>	</a:t>
            </a:r>
            <a:r>
              <a:rPr b="0" lang="de-DE" sz="2400" spc="-1" strike="noStrike">
                <a:solidFill>
                  <a:srgbClr val="40458c"/>
                </a:solidFill>
                <a:latin typeface="Arial"/>
                <a:ea typeface="Tahoma"/>
              </a:rPr>
              <a:t>… </a:t>
            </a:r>
            <a:r>
              <a:rPr b="0" lang="de-DE" sz="2400" spc="-1" strike="noStrike">
                <a:solidFill>
                  <a:srgbClr val="40458c"/>
                </a:solidFill>
                <a:latin typeface="Arial"/>
                <a:ea typeface="Tahoma"/>
              </a:rPr>
              <a:t>by promoting the idea in a strong networ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71640" y="2852640"/>
            <a:ext cx="2160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58c"/>
                </a:solidFill>
                <a:latin typeface="Arial Rounded MT Bold"/>
              </a:rPr>
              <a:t>Netherlands, Groningen, GOA Infra: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16360" y="278136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58c"/>
                </a:solidFill>
                <a:latin typeface="Arial Rounded MT Bold"/>
              </a:rPr>
              <a:t>Brussel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367200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Overview of partners: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774960" y="0"/>
            <a:ext cx="5369040" cy="6669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flipH="1">
            <a:off x="5435640" y="1341360"/>
            <a:ext cx="720720" cy="28728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427280" y="2492280"/>
            <a:ext cx="215640" cy="3603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4427280" y="3284280"/>
            <a:ext cx="144360" cy="43164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0" y="6021360"/>
            <a:ext cx="1187280" cy="1026360"/>
            <a:chOff x="0" y="6021360"/>
            <a:chExt cx="1187280" cy="1026360"/>
          </a:xfrm>
        </p:grpSpPr>
        <p:sp>
          <p:nvSpPr>
            <p:cNvPr id="170" name=""/>
            <p:cNvSpPr/>
            <p:nvPr/>
          </p:nvSpPr>
          <p:spPr>
            <a:xfrm rot="18900000">
              <a:off x="428760" y="6113160"/>
              <a:ext cx="488880" cy="89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972" y="2214"/>
                    <a:pt x="12343" y="5080"/>
                    <a:pt x="12343" y="10800"/>
                  </a:cubicBezTo>
                  <a:cubicBezTo>
                    <a:pt x="12343" y="16520"/>
                    <a:pt x="16972" y="193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6021360"/>
              <a:ext cx="533520" cy="836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 anchorCtr="1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6705720"/>
              <a:ext cx="1187280" cy="152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 anchorCtr="1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3520" y="6021360"/>
              <a:ext cx="0" cy="16020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000" y="6423120"/>
              <a:ext cx="5335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5F799B8-0E1F-4BE5-B3F5-42785504CDFA}" type="slidenum">
                <a:rPr b="1" lang="en-US" sz="1000" spc="-1" strike="noStrike">
                  <a:solidFill>
                    <a:srgbClr val="40458c"/>
                  </a:solidFill>
                  <a:latin typeface="Tahoma"/>
                </a:rPr>
                <a:t>&lt;number&gt;</a:t>
              </a:fld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000" y="6635880"/>
              <a:ext cx="52380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Tahoma"/>
                  <a:ea typeface="Tahoma"/>
                </a:rPr>
                <a:t>21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98280" y="6350040"/>
              <a:ext cx="436680" cy="431640"/>
              <a:chOff x="98280" y="6350040"/>
              <a:chExt cx="436680" cy="431640"/>
            </a:xfrm>
          </p:grpSpPr>
          <p:sp>
            <p:nvSpPr>
              <p:cNvPr id="177" name=""/>
              <p:cNvSpPr/>
              <p:nvPr/>
            </p:nvSpPr>
            <p:spPr>
              <a:xfrm>
                <a:off x="101520" y="6350040"/>
                <a:ext cx="433440" cy="43164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98280" y="6565680"/>
                <a:ext cx="433440" cy="0"/>
              </a:xfrm>
              <a:prstGeom prst="line">
                <a:avLst/>
              </a:prstGeom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10800" bIns="-10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936720" cy="48096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8623440" y="4437000"/>
            <a:ext cx="520560" cy="655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572000" y="3500280"/>
            <a:ext cx="576360" cy="546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H="1" flipV="1">
            <a:off x="6588000" y="3499920"/>
            <a:ext cx="648000" cy="50508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43640" y="3933720"/>
            <a:ext cx="270036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58c"/>
                </a:solidFill>
                <a:latin typeface="Arial Rounded MT Bold"/>
              </a:rPr>
              <a:t>Vocational Training Institute for Construction,  Erfurt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84720" y="1268280"/>
            <a:ext cx="194328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 Rounded MT Bold"/>
              </a:rPr>
              <a:t>BAQ, Research Institute, Breme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981000"/>
            <a:ext cx="1512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0458c"/>
                </a:solidFill>
                <a:latin typeface="Arial Rounded MT Bold"/>
              </a:rPr>
              <a:t>Italy, Roma, Formedil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58920" y="4724280"/>
            <a:ext cx="280836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58c"/>
                </a:solidFill>
                <a:latin typeface="Arial Rounded MT Bold"/>
              </a:rPr>
              <a:t>Romania, Bucharest, </a:t>
            </a:r>
            <a:br>
              <a:rPr sz="1400"/>
            </a:br>
            <a:r>
              <a:rPr b="1" lang="de-DE" sz="1200" spc="-1" strike="noStrike">
                <a:solidFill>
                  <a:srgbClr val="40458c"/>
                </a:solidFill>
                <a:latin typeface="Arial Rounded MT Bold"/>
              </a:rPr>
              <a:t>Casa de Meserii a Constructorilor: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611280" y="1557360"/>
            <a:ext cx="1803240" cy="1081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1619280" y="5229360"/>
            <a:ext cx="1774800" cy="1079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1116000" y="3357720"/>
            <a:ext cx="1803240" cy="1081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667640" y="2060640"/>
            <a:ext cx="144360" cy="144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3068640"/>
            <a:ext cx="144360" cy="144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012000" y="6381720"/>
            <a:ext cx="3132000" cy="307080"/>
            <a:chOff x="6012000" y="6381720"/>
            <a:chExt cx="3132000" cy="307080"/>
          </a:xfrm>
        </p:grpSpPr>
        <p:sp>
          <p:nvSpPr>
            <p:cNvPr id="193" name=""/>
            <p:cNvSpPr/>
            <p:nvPr/>
          </p:nvSpPr>
          <p:spPr>
            <a:xfrm>
              <a:off x="6012000" y="6381720"/>
              <a:ext cx="3132000" cy="307080"/>
            </a:xfrm>
            <a:prstGeom prst="rect">
              <a:avLst/>
            </a:prstGeom>
            <a:solidFill>
              <a:srgbClr val="dddddd">
                <a:alpha val="90000"/>
              </a:srgbClr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271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40458c"/>
                  </a:solidFill>
                  <a:latin typeface="Arial Rounded MT Bold"/>
                </a:rPr>
                <a:t>	</a:t>
              </a:r>
              <a:r>
                <a:rPr b="0" i="1" lang="de-DE" sz="1400" spc="-1" strike="noStrike">
                  <a:solidFill>
                    <a:srgbClr val="40458c"/>
                  </a:solidFill>
                  <a:latin typeface="Arial Rounded MT Bold"/>
                </a:rPr>
                <a:t>Supported by  FIEC, HDB, ZDB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84720" y="6453360"/>
              <a:ext cx="144720" cy="14436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035000" y="593640"/>
            <a:ext cx="7632720" cy="1440000"/>
          </a:xfrm>
          <a:prstGeom prst="parallelogram">
            <a:avLst>
              <a:gd name="adj" fmla="val 97814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  <a:ea typeface="Tahoma"/>
              </a:rPr>
              <a:t>F I E 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367200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Overview of partners:</a:t>
            </a:r>
            <a:endParaRPr b="1" lang="en-US" sz="2400" spc="-1" strike="noStrike" u="sng">
              <a:solidFill>
                <a:srgbClr val="40458c"/>
              </a:solidFill>
              <a:uFillTx/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6021360"/>
            <a:ext cx="1187280" cy="1026360"/>
            <a:chOff x="0" y="6021360"/>
            <a:chExt cx="1187280" cy="1026360"/>
          </a:xfrm>
        </p:grpSpPr>
        <p:sp>
          <p:nvSpPr>
            <p:cNvPr id="198" name=""/>
            <p:cNvSpPr/>
            <p:nvPr/>
          </p:nvSpPr>
          <p:spPr>
            <a:xfrm rot="18900000">
              <a:off x="428760" y="6113160"/>
              <a:ext cx="488880" cy="89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972" y="2214"/>
                    <a:pt x="12343" y="5080"/>
                    <a:pt x="12343" y="10800"/>
                  </a:cubicBezTo>
                  <a:cubicBezTo>
                    <a:pt x="12343" y="16520"/>
                    <a:pt x="16972" y="1938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6021360"/>
              <a:ext cx="533520" cy="836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 anchorCtr="1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6705720"/>
              <a:ext cx="1187280" cy="152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 anchorCtr="1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520" y="6021360"/>
              <a:ext cx="0" cy="16020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000" y="6423120"/>
              <a:ext cx="5335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80FE20B-C82A-4E02-A25F-2F0F4A5E578C}" type="slidenum">
                <a:rPr b="1" lang="en-US" sz="1000" spc="-1" strike="noStrike">
                  <a:solidFill>
                    <a:srgbClr val="40458c"/>
                  </a:solidFill>
                  <a:latin typeface="Tahoma"/>
                </a:rPr>
                <a:t>&lt;number&gt;</a:t>
              </a:fld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000" y="6635880"/>
              <a:ext cx="52380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Tahoma"/>
                  <a:ea typeface="Tahoma"/>
                </a:rPr>
                <a:t>21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98280" y="6350040"/>
              <a:ext cx="436680" cy="431640"/>
              <a:chOff x="98280" y="6350040"/>
              <a:chExt cx="436680" cy="431640"/>
            </a:xfrm>
          </p:grpSpPr>
          <p:sp>
            <p:nvSpPr>
              <p:cNvPr id="205" name=""/>
              <p:cNvSpPr/>
              <p:nvPr/>
            </p:nvSpPr>
            <p:spPr>
              <a:xfrm>
                <a:off x="101520" y="6350040"/>
                <a:ext cx="433440" cy="43164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98280" y="6565680"/>
                <a:ext cx="433440" cy="0"/>
              </a:xfrm>
              <a:prstGeom prst="line">
                <a:avLst/>
              </a:prstGeom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10800" bIns="-10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1763640" y="2492280"/>
            <a:ext cx="2592360" cy="3529080"/>
            <a:chOff x="1763640" y="2492280"/>
            <a:chExt cx="2592360" cy="3529080"/>
          </a:xfrm>
        </p:grpSpPr>
        <p:sp>
          <p:nvSpPr>
            <p:cNvPr id="208" name=""/>
            <p:cNvSpPr/>
            <p:nvPr/>
          </p:nvSpPr>
          <p:spPr>
            <a:xfrm>
              <a:off x="1763640" y="2492280"/>
              <a:ext cx="2592360" cy="865080"/>
            </a:xfrm>
            <a:prstGeom prst="ellipse">
              <a:avLst/>
            </a:prstGeom>
            <a:solidFill>
              <a:srgbClr val="99cc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63640" y="2492280"/>
              <a:ext cx="2592360" cy="3529080"/>
            </a:xfrm>
            <a:prstGeom prst="can">
              <a:avLst>
                <a:gd name="adj" fmla="val 25000"/>
              </a:avLst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  <a:ea typeface="Tahoma"/>
                </a:rPr>
                <a:t>german core grou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2050920" y="5300640"/>
              <a:ext cx="841320" cy="431640"/>
            </a:xfrm>
            <a:prstGeom prst="rect">
              <a:avLst/>
            </a:prstGeom>
            <a:ln w="12600">
              <a:solidFill>
                <a:srgbClr val="0000ff"/>
              </a:solidFill>
              <a:miter/>
            </a:ln>
          </p:spPr>
        </p:pic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3348000" y="5157720"/>
              <a:ext cx="5140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3"/>
            <a:stretch/>
          </p:blipFill>
          <p:spPr>
            <a:xfrm>
              <a:off x="2050920" y="4508280"/>
              <a:ext cx="64944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4"/>
            <a:srcRect l="36915" t="52665" r="43929" b="35931"/>
            <a:stretch/>
          </p:blipFill>
          <p:spPr>
            <a:xfrm>
              <a:off x="3203280" y="4581360"/>
              <a:ext cx="885960" cy="3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"/>
          <p:cNvSpPr/>
          <p:nvPr/>
        </p:nvSpPr>
        <p:spPr>
          <a:xfrm>
            <a:off x="1042920" y="2060640"/>
            <a:ext cx="6193080" cy="4465440"/>
          </a:xfrm>
          <a:prstGeom prst="ellipse">
            <a:avLst/>
          </a:prstGeom>
          <a:noFill/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4560" y="4149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0458c"/>
                </a:solidFill>
                <a:latin typeface="Arial Rounded MT Bold"/>
              </a:rPr>
              <a:t>Netherland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4560" y="29257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0458c"/>
                </a:solidFill>
                <a:latin typeface="Arial Rounded MT Bold"/>
              </a:rPr>
              <a:t>Ital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56000" y="51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0458c"/>
                </a:solidFill>
                <a:latin typeface="Arial Rounded MT Bold"/>
              </a:rPr>
              <a:t>Romani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5219640" y="2781360"/>
            <a:ext cx="1079640" cy="646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5580000" y="4941720"/>
            <a:ext cx="1062000" cy="646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6012000" y="4005360"/>
            <a:ext cx="1079280" cy="645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61920" y="593640"/>
            <a:ext cx="7775640" cy="5975280"/>
          </a:xfrm>
          <a:prstGeom prst="cube">
            <a:avLst>
              <a:gd name="adj" fmla="val 2409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723440" y="1563840"/>
            <a:ext cx="699840" cy="38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BG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E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F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NO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PL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S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U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680" y="1989000"/>
            <a:ext cx="16570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8000"/>
                </a:solidFill>
                <a:latin typeface="Tahoma"/>
                <a:ea typeface="Tahoma"/>
              </a:rPr>
              <a:t>„</a:t>
            </a:r>
            <a:r>
              <a:rPr b="1" lang="de-DE" sz="2400" spc="-1" strike="noStrike">
                <a:solidFill>
                  <a:srgbClr val="008000"/>
                </a:solidFill>
                <a:latin typeface="Tahoma"/>
                <a:ea typeface="Tahoma"/>
              </a:rPr>
              <a:t>2</a:t>
            </a:r>
            <a:r>
              <a:rPr b="1" lang="de-DE" sz="2400" spc="-1" strike="noStrike" baseline="30000">
                <a:solidFill>
                  <a:srgbClr val="008000"/>
                </a:solidFill>
                <a:latin typeface="Tahoma"/>
                <a:ea typeface="Tahoma"/>
              </a:rPr>
              <a:t>nd</a:t>
            </a:r>
            <a:r>
              <a:rPr b="1" lang="de-DE" sz="2400" spc="-1" strike="noStrike">
                <a:solidFill>
                  <a:srgbClr val="008000"/>
                </a:solidFill>
                <a:latin typeface="Tahoma"/>
                <a:ea typeface="Tahoma"/>
              </a:rPr>
              <a:t> cycle“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9440" y="880920"/>
            <a:ext cx="1621800" cy="38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80208"/>
                </a:solidFill>
                <a:latin typeface="Tahoma"/>
                <a:ea typeface="Tahoma"/>
              </a:rPr>
              <a:t>„</a:t>
            </a:r>
            <a:r>
              <a:rPr b="1" lang="de-DE" sz="2400" spc="-1" strike="noStrike">
                <a:solidFill>
                  <a:srgbClr val="f80208"/>
                </a:solidFill>
                <a:latin typeface="Tahoma"/>
                <a:ea typeface="Tahoma"/>
              </a:rPr>
              <a:t>3</a:t>
            </a:r>
            <a:r>
              <a:rPr b="1" lang="de-DE" sz="2400" spc="-1" strike="noStrike" baseline="30000">
                <a:solidFill>
                  <a:srgbClr val="f80208"/>
                </a:solidFill>
                <a:latin typeface="Tahoma"/>
                <a:ea typeface="Tahoma"/>
              </a:rPr>
              <a:t>rd</a:t>
            </a:r>
            <a:r>
              <a:rPr b="1" lang="de-DE" sz="2400" spc="-1" strike="noStrike">
                <a:solidFill>
                  <a:srgbClr val="f80208"/>
                </a:solidFill>
                <a:latin typeface="Tahoma"/>
                <a:ea typeface="Tahoma"/>
              </a:rPr>
              <a:t> cycle“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33520" y="0"/>
            <a:ext cx="0" cy="6172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835280" y="4869000"/>
            <a:ext cx="6769080" cy="647640"/>
          </a:xfrm>
          <a:prstGeom prst="rect">
            <a:avLst/>
          </a:prstGeom>
        </p:spPr>
        <p:txBody>
          <a:bodyPr wrap="none" lIns="18000" rIns="18000" tIns="10800" bIns="10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ork done until now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1:25:09Z</dcterms:created>
  <dc:creator>Bernd Garstka</dc:creator>
  <dc:description/>
  <dc:language>en-US</dc:language>
  <cp:lastModifiedBy>jsb</cp:lastModifiedBy>
  <cp:lastPrinted>2005-11-09T15:54:29Z</cp:lastPrinted>
  <dcterms:modified xsi:type="dcterms:W3CDTF">2008-11-04T08:22:17Z</dcterms:modified>
  <cp:revision>1361</cp:revision>
  <dc:subject/>
  <dc:title>PowerPoint-Präsentation</dc:title>
</cp:coreProperties>
</file>